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096C-73F3-4679-A8CD-0D20810B1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AB57-F715-4494-B318-A0F11619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FEFA-E2A7-4B51-9EBB-D0DCBFB4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53C1-E1D0-412D-9FE2-6EE47850C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7BB7-0E76-4E8C-BE56-BC0AF3C6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A353-8C16-494E-8CF2-3CBE90A3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9F28-DFF6-477A-BD9E-001E2590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9232-B0C1-4130-BFFA-D1E1A32C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C242-F197-4685-83A0-C357409F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E1A9-18B1-4679-911D-1BAE8473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EEDB-DED1-4747-932C-A7CB1D4B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EB2B-F8AA-43E0-AF3E-C95A19D6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287B-909A-4DA8-B54F-BDE04F78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836B-F679-443A-8D47-A2FF32CD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122B-560E-4A88-A304-57094E7B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EB3F-1518-4537-899A-A43F1DC00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E9B9-1403-4992-9C6D-52C46B7F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3471-BCB1-4D0F-A5B8-14902FEE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0F1B-F795-4314-B023-0D6470B2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0319-24BB-4286-AE38-D284126E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2013-843D-44AD-9D2F-CDAE88F2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EA29-C705-4F9C-B9A1-8330CCA6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6F18-5D86-4337-AF08-501C879F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44A6-F360-411A-8FF8-101AF989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1C38-8007-4443-8D58-5CD27B01B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4C85-2E42-4B86-9E2C-AF1E2133B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Verdana"/>
              </a:rPr>
              <a:t>Estado y sociedad en Chile, 1891-193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a) Producción de legalidad (2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os asuntos de que se trataba más largamente en el Parlamento solían ser aquellos que tocaban el campo económico, y que por lo tanto afectaban en uno u otro sentido a diversos sectores de la economía nacional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os problemas doctrinarios de índole religiosa o educacional tenían a veces lugar, virulentamente, pero más generalmente eran esquivados como inoportunos. En cambio, la legislación aduanera, la conversión metálica y el papel moneda, los debates sobre el salitre, sobre las obras públicas, etc., daban más lugar a intervenciones personales, ya que en ellos no regía la exigencia de afiliación a una posición de partido” (Góngora, 198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a) Producción de legalidad (3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8001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a producción de legalidad constituía un mecanismo a través del cual se atendían los diversos intereses de los grupos oligárquicos: bancarios, terratenientes, industri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sta permitía definir los marcos dentro de los cuales se desarrollarían las actividades económicas con el fin de articularlas de mejor manera, cuando no establecían apoyos directos a algunas de ell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b) La no producción de legalidad (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Si producir una ley podía tener una serie de ventajas para alguno de los grupos oligárquicos, no producirlas las tenía, para otr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Se formaban mayorías circunstanciales para aprobar como para obstruir sistemáticamente algunos proyectos de ley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Ejemplos: impuestos directos a la población, rechazo a aumentar las incompatibilidad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b) La no producción de legalidad (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a producción como la no producción de legalidad se transformaron en importantes mecanismos, a través de los cuales los distintos grupos oligárquicos defendieron sus interes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Hubo además toda otra producción de legalidad referida a la administración pública, ejercito, policía, etc.;pero que no revestía igual importancia para sus actividades económicas  y que, por lo mismo, no desataba mucha controversi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b) La no producción de legalidad (3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350028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Proceso de producción y no producción: dos óptic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1989000"/>
            <a:ext cx="718920" cy="4032360"/>
          </a:xfrm>
          <a:custGeom>
            <a:avLst/>
            <a:gdLst>
              <a:gd name="textAreaLeft" fmla="*/ 459360 w 718920"/>
              <a:gd name="textAreaRight" fmla="*/ 719280 w 718920"/>
              <a:gd name="textAreaTop" fmla="*/ 105120 h 4032360"/>
              <a:gd name="textAreaBottom" fmla="*/ 3927240 h 403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8"/>
                </a:lnTo>
                <a:cubicBezTo>
                  <a:pt x="10800" y="9908"/>
                  <a:pt x="5400" y="10808"/>
                  <a:pt x="0" y="10808"/>
                </a:cubicBezTo>
                <a:cubicBezTo>
                  <a:pt x="5400" y="10808"/>
                  <a:pt x="10800" y="11708"/>
                  <a:pt x="10800" y="1260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995640" y="2349360"/>
            <a:ext cx="44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Referida a la generación de marcos legales que institucionalizarían, ya fuera para mantener o potenciar, situaciones de hecho favorables para algunos de los miembros de ell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3995640" y="4005360"/>
            <a:ext cx="439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Como no generación de marcos legales, a pesar de que en ciertos círculos, aparecían ya como necesarios , que redujeran las oportunidades que el monopolio del Estado ofrecí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II. La Exclusión Polític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7750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Se expreso en el monopolio que tuvo la oligarquía del aparato estat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62120" indent="-76212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se extiende por todo el territori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62120" indent="-76212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“… 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naturaleza de la dominación hacia el novecientos permite que la oligarquía no solo controle el Estado, sino que sea el Estado mismo” (Barros y Vergara, 1978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Verdana"/>
              </a:rPr>
              <a:t>Mecanismos de exclusión polític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99680" y="19285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ráctica política: “el deporte de la oligarquía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Acceso a la política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Voto censitar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Gratuidad trabajo parlamentario (existía la obligación de poseer renta para ser candidato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Síntesis exclusión polític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n un sistema de voto restringido, donde ser parlamentario implicaba disponer de los medios personales suficientes para subsistir y en donde el acceso a una candidatura y los votantes pasaba por la voluntad de uno o varios latifundistas, solo era posible llegar a alguna de las cámaras, y por su puesto de la administración pública  en sus altas jerarquías, si se era miembro de alguno de los grupos oligárquicos.  No cualquiera podía  tomar parte en su “depor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III. Exclusión administrativ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280" y="1928880"/>
            <a:ext cx="80010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e expresa en dos prácticas recurrent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i) la provisión de cargos y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ii) el establecimiento de lazos comerciales con el exteri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Dan cuenta de la forma como las oligarquías concebían su vinculo con el Estado y como esa forma de concebirlo también actuara como exclusió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Manifestaciones de la exclu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Fronteras difusas entre lo público y privado. (contratos con el Estado, provisión de cargos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lientelism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Negocios con el exteri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IV. La exclusión leg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La producción de legalidad era el mecanismo que cerraba el circulo de la exclus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De las situaciones de privilegio económico y social se saltaba a la práctica política, de ahí a la administrativa y de ella a la producción de la ley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Esta a su vez sancionaba las prácticas anteriores dándoles una base institucional y generando las condiciones de su propia reproduc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xclusión de legal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3429000"/>
            <a:ext cx="2449440" cy="1079640"/>
          </a:xfrm>
          <a:prstGeom prst="rect">
            <a:avLst/>
          </a:prstGeom>
          <a:solidFill>
            <a:srgbClr val="003366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Exclusión d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leg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565360"/>
            <a:ext cx="792000" cy="2664000"/>
          </a:xfrm>
          <a:custGeom>
            <a:avLst/>
            <a:gdLst>
              <a:gd name="textAreaLeft" fmla="*/ 506160 w 792000"/>
              <a:gd name="textAreaRight" fmla="*/ 792360 w 792000"/>
              <a:gd name="textAreaTop" fmla="*/ 69480 h 2664000"/>
              <a:gd name="textAreaBottom" fmla="*/ 259452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2997360"/>
            <a:ext cx="3527640" cy="19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Producción de leg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no producción de leg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) Producción de legalidad (1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mecanismos a través del cual se producía una ley fue donde más se encarnaron los intereses de los distintos grupos oligárquic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 producción de legalidad tenía una importante relación con la forma en que las oligarquías concebían el Esta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Otro de los campos predilectos de la producción de legalidad estuvo relacionado con el problema monet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mmorenop</cp:lastModifiedBy>
  <dcterms:modified xsi:type="dcterms:W3CDTF">2010-06-01T23:51:58Z</dcterms:modified>
  <cp:revision>33</cp:revision>
  <dc:subject/>
  <dc:title>La compleja herencia del siglo XIX</dc:title>
</cp:coreProperties>
</file>